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1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3D03C-D017-4D04-A6E5-CE091E12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B7E58-CC3A-4768-A206-ACB078E8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DAD2A-1133-4B32-8FED-B1A163E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78DE4-2A1E-420E-BC86-38620BBA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9C26D-ACA8-4F27-9411-2AD06E2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E874A-2312-4012-8595-17AA5742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6C090-BE8D-43FC-BA14-B364206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E0B9B-B4D4-4535-B09B-B9D6C4FA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C440A-963B-4343-9A7F-2E19E5F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3E741-0230-44A8-8DF6-A86CF2CB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D3F8F-55E2-4F79-852F-F26D1C7B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6B55B-C32B-4342-9A60-EB1018B1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67648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3680" y="1542960"/>
            <a:ext cx="638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3680" y="1542960"/>
            <a:ext cx="62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3680" y="1371600"/>
            <a:ext cx="62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" name="strapline" descr="catch the light"/>
          <p:cNvPicPr/>
          <p:nvPr/>
        </p:nvPicPr>
        <p:blipFill>
          <a:blip r:embed="rId2"/>
          <a:stretch/>
        </p:blipFill>
        <p:spPr>
          <a:xfrm>
            <a:off x="6853320" y="0"/>
            <a:ext cx="2079720" cy="628560"/>
          </a:xfrm>
          <a:prstGeom prst="rect">
            <a:avLst/>
          </a:prstGeom>
          <a:ln w="0">
            <a:noFill/>
          </a:ln>
        </p:spPr>
      </p:pic>
      <p:pic>
        <p:nvPicPr>
          <p:cNvPr id="5" name="logo" descr="electron tubes"/>
          <p:cNvPicPr/>
          <p:nvPr/>
        </p:nvPicPr>
        <p:blipFill>
          <a:blip r:embed="rId3"/>
          <a:stretch/>
        </p:blipFill>
        <p:spPr>
          <a:xfrm>
            <a:off x="7504200" y="6205680"/>
            <a:ext cx="183996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narrow_GraphicStrip_yellow" descr="electron tubes"/>
          <p:cNvPicPr/>
          <p:nvPr/>
        </p:nvPicPr>
        <p:blipFill>
          <a:blip r:embed="rId4"/>
          <a:stretch/>
        </p:blipFill>
        <p:spPr>
          <a:xfrm>
            <a:off x="0" y="58572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2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3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4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6931-A276-4370-83AB-BAD223FDEE1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84320" y="5830920"/>
            <a:ext cx="586728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NN05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ext Generation of Nucleon Decay and Neutrino Detectors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7-9 April 2005, Aussois, Savoie, France</a:t>
            </a:r>
            <a:br>
              <a:rPr sz="24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0520" y="2873520"/>
            <a:ext cx="8219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ony Wright, Electron Tubes Limited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74880" y="10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8600" y="1080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y outli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FIG1" descr=""/>
          <p:cNvPicPr/>
          <p:nvPr/>
        </p:nvPicPr>
        <p:blipFill>
          <a:blip r:embed="rId1"/>
          <a:stretch/>
        </p:blipFill>
        <p:spPr>
          <a:xfrm>
            <a:off x="527040" y="2077920"/>
            <a:ext cx="3041640" cy="2700360"/>
          </a:xfrm>
          <a:prstGeom prst="rect">
            <a:avLst/>
          </a:prstGeom>
          <a:ln w="0">
            <a:noFill/>
          </a:ln>
        </p:spPr>
      </p:pic>
      <p:pic>
        <p:nvPicPr>
          <p:cNvPr id="215" name="FIG2" descr=""/>
          <p:cNvPicPr/>
          <p:nvPr/>
        </p:nvPicPr>
        <p:blipFill>
          <a:blip r:embed="rId2"/>
          <a:stretch/>
        </p:blipFill>
        <p:spPr>
          <a:xfrm>
            <a:off x="3733920" y="2687760"/>
            <a:ext cx="2071440" cy="2090520"/>
          </a:xfrm>
          <a:prstGeom prst="rect">
            <a:avLst/>
          </a:prstGeom>
          <a:ln w="0">
            <a:noFill/>
          </a:ln>
        </p:spPr>
      </p:pic>
      <p:pic>
        <p:nvPicPr>
          <p:cNvPr id="216" name="FIG3" descr=""/>
          <p:cNvPicPr/>
          <p:nvPr/>
        </p:nvPicPr>
        <p:blipFill>
          <a:blip r:embed="rId3"/>
          <a:srcRect l="0" t="0" r="50446" b="0"/>
          <a:stretch/>
        </p:blipFill>
        <p:spPr>
          <a:xfrm>
            <a:off x="6378480" y="1955880"/>
            <a:ext cx="1076400" cy="3946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42840" y="52704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1800/PS180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84800" y="5270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1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35760" y="588816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0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440" y="1465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ptimising photomultiplier performance with low power consumpti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080" y="253800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attery opera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olar powered (Auger, satelli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underwater, under ice, in liquid arg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 considerations: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nsuming power (voltage divide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viding power (HV suppl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000" y="1438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oltage divider consideratio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080" y="2538360"/>
            <a:ext cx="819324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Requirement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establish and maintain set of fixed dynode potentia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re are two generic types availabl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raditional resistor configur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ctive type (FE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 all-resistor divider always fails the requirement if the mean anode current varies significantly.  Active dividers fix the dynode potentials regardless of mean anode curr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495440"/>
            <a:ext cx="77724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ctive divider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active%20divider%20networks" descr=""/>
          <p:cNvPicPr/>
          <p:nvPr/>
        </p:nvPicPr>
        <p:blipFill>
          <a:blip r:embed="rId1"/>
          <a:stretch/>
        </p:blipFill>
        <p:spPr>
          <a:xfrm>
            <a:off x="936720" y="2066760"/>
            <a:ext cx="7813440" cy="4313520"/>
          </a:xfrm>
          <a:prstGeom prst="rect">
            <a:avLst/>
          </a:prstGeom>
          <a:ln w="0">
            <a:noFill/>
          </a:ln>
        </p:spPr>
      </p:pic>
      <p:pic>
        <p:nvPicPr>
          <p:cNvPr id="226" name="etl" descr=""/>
          <p:cNvPicPr/>
          <p:nvPr/>
        </p:nvPicPr>
        <p:blipFill>
          <a:blip r:embed="rId2"/>
          <a:stretch/>
        </p:blipFill>
        <p:spPr>
          <a:xfrm>
            <a:off x="7764480" y="6134040"/>
            <a:ext cx="1003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chematics" descr=""/>
          <p:cNvPicPr/>
          <p:nvPr/>
        </p:nvPicPr>
        <p:blipFill>
          <a:blip r:embed="rId1"/>
          <a:srcRect l="2137" t="0" r="0" b="0"/>
          <a:stretch/>
        </p:blipFill>
        <p:spPr>
          <a:xfrm>
            <a:off x="623880" y="1123920"/>
            <a:ext cx="7083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ph" descr=""/>
          <p:cNvPicPr/>
          <p:nvPr/>
        </p:nvPicPr>
        <p:blipFill>
          <a:blip r:embed="rId1"/>
          <a:stretch/>
        </p:blipFill>
        <p:spPr>
          <a:xfrm>
            <a:off x="939960" y="1776240"/>
            <a:ext cx="7368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1426680"/>
            <a:ext cx="77724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7240" y="2397240"/>
          <a:ext cx="7694640" cy="2238120"/>
        </p:xfrm>
        <a:graphic>
          <a:graphicData uri="http://schemas.openxmlformats.org/drawingml/2006/table">
            <a:tbl>
              <a:tblPr/>
              <a:tblGrid>
                <a:gridCol w="1865520"/>
                <a:gridCol w="1944360"/>
                <a:gridCol w="1941840"/>
                <a:gridCol w="1942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put power (mW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 cur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8280" y="13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igh voltage supply and control system – HVSys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83204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ultichannel power suppl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dividual channel control and monitor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S485 interfac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equires only single +12V suppl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43200" y="3076560"/>
            <a:ext cx="5267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338120" y="1371600"/>
            <a:ext cx="6535800" cy="3500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438200" y="5256360"/>
            <a:ext cx="70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functional diagram of 1 channel.  The hardware shown is integrated within each power base enclosure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32040" y="1743120"/>
            <a:ext cx="7094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ight detection: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solid angl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cathode are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ong operating lif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gai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well-resolved 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fast timing and freedom from artef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sure resist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chemically inert glass – free from radioisotop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ow temperature operation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ower consideratio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voltage supplies and contro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voltage divid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2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193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194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81280" y="1884240"/>
            <a:ext cx="55497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 Stubberfiel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.stubberfield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 Wrigh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.wright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vailable to discuss your particula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241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242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fastpmt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789600" y="254628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6" name="hemix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45000" y="1566720"/>
            <a:ext cx="1779840" cy="1935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9480" y="1566720"/>
            <a:ext cx="5105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ange of hemispherical photomultipli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6180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d(m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dynodes                 σ(τ) 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om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7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hemically ine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ltra low background 5 At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-200 </a:t>
            </a:r>
            <a:r>
              <a:rPr b="1" lang="en-GB" sz="14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 oper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8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09840"/>
            <a:ext cx="273996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lass characteris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71640"/>
            <a:ext cx="47736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ickness:  ranges from 2 to 4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ressure:  2 to 5 atmospher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radionuclides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K(pp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(ppb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(pp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47.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windows4" descr=""/>
          <p:cNvPicPr/>
          <p:nvPr/>
        </p:nvPicPr>
        <p:blipFill>
          <a:blip r:embed="rId1"/>
          <a:stretch/>
        </p:blipFill>
        <p:spPr>
          <a:xfrm>
            <a:off x="6016680" y="1509840"/>
            <a:ext cx="2876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306000" cy="5718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10040" y="125244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ngle electron response S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ubsandorzhiev" descr=""/>
          <p:cNvPicPr/>
          <p:nvPr/>
        </p:nvPicPr>
        <p:blipFill>
          <a:blip r:embed="rId1"/>
          <a:stretch/>
        </p:blipFill>
        <p:spPr>
          <a:xfrm>
            <a:off x="2247840" y="1797120"/>
            <a:ext cx="4943520" cy="4714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4120" y="1413000"/>
            <a:ext cx="37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distrib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tdCathodes%20for%20AGW%20presentation" descr=""/>
          <p:cNvPicPr/>
          <p:nvPr/>
        </p:nvPicPr>
        <p:blipFill>
          <a:blip r:embed="rId1"/>
          <a:stretch/>
        </p:blipFill>
        <p:spPr>
          <a:xfrm>
            <a:off x="260280" y="1590840"/>
            <a:ext cx="16733880" cy="88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33320" y="1357200"/>
            <a:ext cx="34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23920" y="1925640"/>
          <a:ext cx="6896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925640"/>
                    <a:ext cx="6896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1200" y="1464840"/>
            <a:ext cx="5146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9360" y="251748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W type with n individual socket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tive divider with n individual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w power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ustrial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9:18:06Z</dcterms:created>
  <dc:creator>Giselle Lord</dc:creator>
  <dc:description/>
  <dc:language>en-US</dc:language>
  <cp:lastModifiedBy>glord</cp:lastModifiedBy>
  <cp:lastPrinted>2002-07-29T13:08:12Z</cp:lastPrinted>
  <dcterms:modified xsi:type="dcterms:W3CDTF">2005-04-05T16:03:05Z</dcterms:modified>
  <cp:revision>155</cp:revision>
  <dc:subject/>
  <dc:title>Electron Tubes Product Range</dc:title>
</cp:coreProperties>
</file>